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917-7DFA-4972-A3B1-D901EEB5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B0A-489F-441E-9DC4-D60B246B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26B-5618-4A7B-9C18-1D203964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600-F8FA-4E7B-9CC8-006611D1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F1C-4424-4BDC-AA5D-03EBEBF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1A1-11C1-4AEE-8195-EDFAB5FE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FF8-1115-410E-9762-9FFDF876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F36-3397-4035-A48C-CE08371E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48A-8D0C-49A2-A072-1F6C7419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BAB-9FB5-473F-8FD7-DF625EF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32B-8452-46B8-AA64-9E9923F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703-E1CC-470A-BA65-8D9F5BA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E91F-3E66-4C0C-9A79-14BDFFC2EAA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80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hapter 2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 2.1 Informational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63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an informational t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ything that was written mainly to explain or give information about a topic is an informational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types of reading materials are informational tex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308480" cy="252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920" y="4403880"/>
            <a:ext cx="2225520" cy="245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6084720" y="1427040"/>
            <a:ext cx="3059280" cy="362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19461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the major elements of an informational 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entral purpos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is the focus of an informational text.  Its what the author wants you to lea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Major Idea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the important point made in a section of informational text.  The supporting details develop and explain the major or main 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the major elements of an informational 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Maps, tables and timelines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visual aid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hat organize a great deal of information in an easy to use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ndex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t the end of a book is an alphabetical list of topics in the book and the pages on which they are menti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2:33:03Z</dcterms:created>
  <dc:creator>Jason</dc:creator>
  <dc:description/>
  <dc:language>en-US</dc:language>
  <cp:lastModifiedBy>Jason</cp:lastModifiedBy>
  <cp:lastPrinted>2011-03-09T15:45:32Z</cp:lastPrinted>
  <dcterms:modified xsi:type="dcterms:W3CDTF">2011-03-23T12:04:50Z</dcterms:modified>
  <cp:revision>3</cp:revision>
  <dc:subject/>
  <dc:title>Chapter 2  2.1 Informational Text</dc:title>
</cp:coreProperties>
</file>